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1DC1-AF16-47C6-ABDB-6C0DC301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9B8E-3C7A-4999-BAD6-85860990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E89-B5E2-4186-9B0E-9AECE9E2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6A5-8A2B-43AF-891A-E58543E1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1E20-78B4-4683-A458-85A9E07F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7067-457C-4E62-9F10-EF6D8296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F680-2E2E-4874-A56F-B0B42380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B215-D261-4AC9-A1A1-700D89DB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28AE-7DF0-43FC-88EC-E360EB6F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3300-8F88-41B7-B4AA-68161F3A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7B02-8B8E-48E1-BB05-D57A1842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7F00-05C8-41C5-A183-7955CDD1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76FC-BB6D-4FAB-9257-8C36A8DC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FF1B-09B0-418F-954E-9288A165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708D-9A30-4411-A2CC-2C9F4FDC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6DE3-87C1-4A05-B848-DF47BE9C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C6F5-4DA7-4795-97D3-9A62EAA7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91EF-6372-41B2-A49B-B712F703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8982-538D-4F99-B2F5-88F49DD6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04A-CD44-48AB-AFFA-328C7B66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7496-A8E0-4BED-AFFE-4A097762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39B0-3C89-4D9E-BAA5-4A12246D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AB04-0FEA-4785-A5D5-ADB18544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F89E-A65F-48B1-AA69-4D974817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4BF1-5D5E-4B0C-99D9-05D93B5BA80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B290-5855-4DD1-AD7E-FF1B98022D7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elcome to Year 8 History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ate homework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KNOW that your homework is going to be late then let me know the day before at the latest. I won’t bite your head off and if you have a good reason I might grant an extens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don’t tell me before and simply wait till the lesson I just might bite your head off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236600" cy="10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ny question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o am I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me: Mr. Wrigh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tionality: Britis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me town: Hasting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ast job: Teaching History in Milan, Ital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do I want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same as you: for you all to enjoy studying History and to do fantastically well, If you are enjoying yourselves and doing well then so am I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e are like the clown fish and sea anemones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362320" y="2514600"/>
            <a:ext cx="4724280" cy="3543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600" y="6400800"/>
            <a:ext cx="790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en.wikipedia.org/wiki/Image:Common_clownfish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ne Rule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omic Sans MS"/>
              </a:rPr>
              <a:t>Do the right thing!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ward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 will ALWAYS aim to give out more rewards than punishments and say more positive things than negative things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1067040" cy="14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unishment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body is perfect, including me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break ‘the rule’ then I operate a ‘3 strikes’ policy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st strike: I tell you what you have done wro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nd strike: Your name goes on the boar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rd strike: Tick by your name = detention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we studying this year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lack Peoples of the America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mperial Chin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mework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2133360"/>
            <a:ext cx="876312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very week you should spend a few minutes ‘reviewing’ the work done, this might involve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Re-reading a source you found tricky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Learning some of the keywords covered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Looking up some extra information on something you found especially interesting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st weeks there will also be a specific homework task to do. There will be a clear and fair due date each time: make sure it is in on tim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7-08-28T05:07:13Z</dcterms:modified>
  <cp:revision>2</cp:revision>
  <dc:subject/>
  <dc:title>Welcome to Year 8 History!</dc:title>
</cp:coreProperties>
</file>